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CFF7-0751-4E45-BBFF-210135FF8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813-9FBD-4559-A630-6C64C531B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A8B0-0A1E-48D4-BC5A-2850E41B0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10-2C21-42C2-B384-63246EA6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3D3-040A-48D1-96F3-1C885344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95B-D8EA-4F5A-B391-2049E075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549-6D3E-42AC-A21B-E084F7F2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31C-6AAB-4595-A056-3176103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C22-95DC-48C0-9FA0-7B6262BE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2DC-3926-44FD-AD13-7E443305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878-9AA2-449A-ABBD-D0D306A4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DD-C26B-497E-83B4-CBF87A97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F24-13BB-488F-8618-9DB0F7F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10D-02FA-46B7-BDD2-008423F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65F-50BB-4BF2-932F-3545A4E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E43-D079-468A-B283-A3C109F1AC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think/insight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com/think/insights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02:27:42Z</dcterms:created>
  <dc:creator/>
  <dc:description/>
  <cp:keywords>smartphone mobile global MMA</cp:keywords>
  <dc:language>en-US</dc:language>
  <cp:lastModifiedBy>Jenny Liu</cp:lastModifiedBy>
  <dcterms:modified xsi:type="dcterms:W3CDTF">2011-06-20T04:01:04Z</dcterms:modified>
  <cp:revision>4</cp:revision>
  <dc:subject/>
  <dc:title>Global Perspectives - The Smartphone User and Mobile Marketer, Google/MMA, June 2011</dc:title>
</cp:coreProperties>
</file>